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7EF-E1ED-461B-8D87-16890A71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925-334B-4483-82D2-210DEB4C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F11-F35B-430F-9E26-112E381B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A57-7B37-4DBE-B65D-B490FD42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2DC-087D-45DA-9A8D-BC2FE077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15B-F7F8-4980-9D59-877F9E74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3AE-3D84-4E1D-8775-E7FECBF5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252-5418-4F00-ACF0-55A21BEE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03D-B18C-4869-8DF9-3D318DEF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EDF-E106-466B-9768-A00EBDF4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31A-51AD-4CD3-AB1F-D060BEDF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AF3-A279-4595-BDD5-E6C1376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0C62-8463-4354-B868-0ECF91E1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husar@me.wustl.edu" TargetMode="External"/><Relationship Id="rId3" Type="http://schemas.openxmlformats.org/officeDocument/2006/relationships/hyperlink" Target="mailto:emr1@wustl.edu" TargetMode="External"/><Relationship Id="rId4" Type="http://schemas.openxmlformats.org/officeDocument/2006/relationships/hyperlink" Target="mailto:stefan@wustl.edu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reillynet.com/pub/a/oreilly/tim/news/2005/09/30/what-is-web-20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7404" r="0" b="0"/>
          <a:stretch/>
        </p:blipFill>
        <p:spPr>
          <a:xfrm>
            <a:off x="1143000" y="2971800"/>
            <a:ext cx="2895480" cy="1905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IP Air Quality Custer Initiative</a:t>
            </a:r>
            <a:br>
              <a:rPr sz="2400"/>
            </a:b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pac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ng Data Producers, Analysts Decision Ma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5627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095880"/>
            <a:ext cx="7772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ter ESIP Meeting, January 8, 2008, Washington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rhusar@me.wustl.ed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emr1@wustl.ed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stefan@wustl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0" y="2971800"/>
            <a:ext cx="3048120" cy="1981080"/>
            <a:chOff x="4572000" y="2971800"/>
            <a:chExt cx="3048120" cy="1981080"/>
          </a:xfrm>
        </p:grpSpPr>
        <p:sp>
          <p:nvSpPr>
            <p:cNvPr id="47" name=""/>
            <p:cNvSpPr/>
            <p:nvPr/>
          </p:nvSpPr>
          <p:spPr>
            <a:xfrm>
              <a:off x="4572000" y="2971800"/>
              <a:ext cx="3048120" cy="19810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724280" y="3038400"/>
              <a:ext cx="2809800" cy="337320"/>
              <a:chOff x="4724280" y="3038400"/>
              <a:chExt cx="2809800" cy="337320"/>
            </a:xfrm>
          </p:grpSpPr>
          <p:sp>
            <p:nvSpPr>
              <p:cNvPr id="49" name=""/>
              <p:cNvSpPr/>
              <p:nvPr/>
            </p:nvSpPr>
            <p:spPr>
              <a:xfrm>
                <a:off x="4724280" y="3038400"/>
                <a:ext cx="2809800" cy="30492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724280" y="3038400"/>
                <a:ext cx="280980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ministrativ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48520" y="3471840"/>
              <a:ext cx="1238040" cy="965160"/>
              <a:chOff x="6248520" y="3471840"/>
              <a:chExt cx="1238040" cy="965160"/>
            </a:xfrm>
          </p:grpSpPr>
          <p:sp>
            <p:nvSpPr>
              <p:cNvPr id="52" name=""/>
              <p:cNvSpPr/>
              <p:nvPr/>
            </p:nvSpPr>
            <p:spPr>
              <a:xfrm>
                <a:off x="6248520" y="3471840"/>
                <a:ext cx="1238040" cy="96516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248520" y="3471840"/>
                <a:ext cx="1238040" cy="58068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ols, Method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724280" y="3471840"/>
              <a:ext cx="1333800" cy="965160"/>
              <a:chOff x="4724280" y="3471840"/>
              <a:chExt cx="1333800" cy="965160"/>
            </a:xfrm>
          </p:grpSpPr>
          <p:sp>
            <p:nvSpPr>
              <p:cNvPr id="55" name=""/>
              <p:cNvSpPr/>
              <p:nvPr/>
            </p:nvSpPr>
            <p:spPr>
              <a:xfrm>
                <a:off x="4724280" y="3471840"/>
                <a:ext cx="1333800" cy="96516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24280" y="3471840"/>
                <a:ext cx="133380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sour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724280" y="4495680"/>
              <a:ext cx="2809800" cy="337320"/>
              <a:chOff x="4724280" y="4495680"/>
              <a:chExt cx="2809800" cy="337320"/>
            </a:xfrm>
          </p:grpSpPr>
          <p:sp>
            <p:nvSpPr>
              <p:cNvPr id="58" name=""/>
              <p:cNvSpPr/>
              <p:nvPr/>
            </p:nvSpPr>
            <p:spPr>
              <a:xfrm>
                <a:off x="4724280" y="4495680"/>
                <a:ext cx="2809800" cy="25272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724280" y="4495680"/>
                <a:ext cx="280980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utcom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3809880" y="35812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6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6668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operability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6668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ki Work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A allows accessing distributes AQ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1249" t="0" r="11249" b="0"/>
          <a:stretch/>
        </p:blipFill>
        <p:spPr>
          <a:xfrm>
            <a:off x="152280" y="1905120"/>
            <a:ext cx="4800600" cy="428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15350"/>
          <a:stretch/>
        </p:blipFill>
        <p:spPr>
          <a:xfrm>
            <a:off x="5105520" y="1371600"/>
            <a:ext cx="403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formation Interoperability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8884" r="0" b="0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2590920"/>
            <a:ext cx="754380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276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b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 Worksp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819520" y="2057400"/>
            <a:ext cx="3962160" cy="2438280"/>
            <a:chOff x="2819520" y="2057400"/>
            <a:chExt cx="3962160" cy="2438280"/>
          </a:xfrm>
        </p:grpSpPr>
        <p:sp>
          <p:nvSpPr>
            <p:cNvPr id="73" name=""/>
            <p:cNvSpPr/>
            <p:nvPr/>
          </p:nvSpPr>
          <p:spPr>
            <a:xfrm>
              <a:off x="2819520" y="2057400"/>
              <a:ext cx="3962160" cy="24382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971800" y="2133720"/>
              <a:ext cx="3652560" cy="376200"/>
              <a:chOff x="2971800" y="2133720"/>
              <a:chExt cx="3652560" cy="376200"/>
            </a:xfrm>
          </p:grpSpPr>
          <p:sp>
            <p:nvSpPr>
              <p:cNvPr id="75" name=""/>
              <p:cNvSpPr/>
              <p:nvPr/>
            </p:nvSpPr>
            <p:spPr>
              <a:xfrm>
                <a:off x="2971800" y="2133720"/>
                <a:ext cx="3652560" cy="37620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971800" y="2133720"/>
                <a:ext cx="365256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ministrativ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52880" y="2666880"/>
              <a:ext cx="1609920" cy="1187280"/>
              <a:chOff x="4952880" y="2666880"/>
              <a:chExt cx="1609920" cy="1187280"/>
            </a:xfrm>
          </p:grpSpPr>
          <p:sp>
            <p:nvSpPr>
              <p:cNvPr id="78" name=""/>
              <p:cNvSpPr/>
              <p:nvPr/>
            </p:nvSpPr>
            <p:spPr>
              <a:xfrm>
                <a:off x="4952880" y="2666880"/>
                <a:ext cx="1609920" cy="118728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2880" y="2666880"/>
                <a:ext cx="160992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ols, Method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971800" y="2666880"/>
              <a:ext cx="1733400" cy="1187280"/>
              <a:chOff x="2971800" y="2666880"/>
              <a:chExt cx="1733400" cy="1187280"/>
            </a:xfrm>
          </p:grpSpPr>
          <p:sp>
            <p:nvSpPr>
              <p:cNvPr id="81" name=""/>
              <p:cNvSpPr/>
              <p:nvPr/>
            </p:nvSpPr>
            <p:spPr>
              <a:xfrm>
                <a:off x="2971800" y="2666880"/>
                <a:ext cx="1733400" cy="118728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71800" y="2666880"/>
                <a:ext cx="173340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sour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971800" y="4114800"/>
              <a:ext cx="3652560" cy="337320"/>
              <a:chOff x="2971800" y="4114800"/>
              <a:chExt cx="3652560" cy="337320"/>
            </a:xfrm>
          </p:grpSpPr>
          <p:sp>
            <p:nvSpPr>
              <p:cNvPr id="84" name=""/>
              <p:cNvSpPr/>
              <p:nvPr/>
            </p:nvSpPr>
            <p:spPr>
              <a:xfrm>
                <a:off x="2971800" y="4114800"/>
                <a:ext cx="3652560" cy="311400"/>
              </a:xfrm>
              <a:prstGeom prst="rect">
                <a:avLst/>
              </a:prstGeom>
              <a:solidFill>
                <a:srgbClr val="ffffe5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71800" y="4114800"/>
                <a:ext cx="3652560" cy="33732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utcom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-Centric Workspac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DataSpace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12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3633840" cy="195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8098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 flipV="1">
            <a:off x="3962520" y="2819520"/>
            <a:ext cx="1981080" cy="45720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2971800"/>
            <a:ext cx="0" cy="129528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581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352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cribe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5334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cuss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638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arth Science Information Partners (E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609480"/>
            <a:ext cx="3809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mantic Wiki: Structured (RDF and Unstructure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, Standard Matadata - R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y for Export/Harvesting  by Registries, Cata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715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-Task-Centric Workspace Exampl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EventSpaces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5333760" cy="4114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949480" cy="35812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41694"/>
          <a:stretch/>
        </p:blipFill>
        <p:spPr>
          <a:xfrm>
            <a:off x="5943600" y="4027320"/>
            <a:ext cx="2909880" cy="21448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80880" y="4267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7432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ific Exception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rve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Workspa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eb is being transformed: It is becoming more particip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the explosive growth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k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cture-sha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ebo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architectural, technological and cultural change is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eb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2.O is good for Earth Science community since it a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harvesting of current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many cultural, legal and other berries re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paces may connect info providers, analysts, 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5242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7:32:38Z</dcterms:created>
  <dc:creator>s</dc:creator>
  <dc:description/>
  <dc:language>en-US</dc:language>
  <cp:lastModifiedBy>Administrator</cp:lastModifiedBy>
  <dcterms:modified xsi:type="dcterms:W3CDTF">2008-01-15T20:22:49Z</dcterms:modified>
  <cp:revision>123</cp:revision>
  <dc:subject/>
  <dc:title>Slide 1</dc:title>
</cp:coreProperties>
</file>